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9C79-EBA4-4559-B546-BF09C2FC3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raditional architecture, not like PowerVR or Talis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resolution in the monster configuration is 2048x1536 with true color and 32-bit IEEE floating point depth buff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762-E34F-4E2A-AC06-1D44367C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012-A8FB-43CD-8D38-AE576E70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6CD-A225-4500-BF3E-A8570E62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102-A003-42A7-804F-3B3C4FDB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734-E233-4529-8393-746352BB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D0B-DDF1-4CE4-A439-21135D04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9E1-656B-4EFA-90AB-7A7E3D9F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FBA-981A-4E93-ADA4-95E3C759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E09-CA5E-4F86-BE82-B64B7978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05B-C89D-46CC-86DF-8CA64E3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4E3-E683-48D2-BCE4-09590C1B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F88-B678-4332-B25D-1042640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Bitboys 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ri Nordl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Archit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boys O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nord@bitboys.f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624-F59C-451E-8457-A09C168E4E5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xel pipel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05120" y="1523880"/>
          <a:ext cx="5448240" cy="44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44824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D93-4B10-4012-B6C2-A9F415B7F2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y embedded DRAM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cs accelerator needs GB/s of memory bandwidth, to render at 600 MPIX/s at true color and 32-bit Z, 7.2 GB/s of memory bandwidth is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memory can no longer provide enough bandwidth for future graphics accel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-efficient - less chips on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power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size - we needed exactly 9 MB (= 72 M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organization in terms of bus width, ba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10E-2E83-4211-BCD0-541ADC6A250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Black"/>
              </a:rPr>
              <a:t>Cell-concepts: Trench versus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46240" y="941400"/>
            <a:ext cx="1227240" cy="317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383000" y="1852560"/>
          <a:ext cx="3141720" cy="4233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1852560"/>
                    <a:ext cx="314172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438280" y="3657600"/>
            <a:ext cx="495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052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3657600"/>
            <a:ext cx="5331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3657600"/>
            <a:ext cx="533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1520" y="1219320"/>
            <a:ext cx="19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etitor’s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H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lock stacked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hard to add mult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2320" y="1219320"/>
            <a:ext cx="460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fineon’s trench capacitor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ideally suited for adding multi-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6668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2760" y="2514600"/>
            <a:ext cx="11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L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36232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6600" y="28954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6960" y="22096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meta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620120" y="3048120"/>
            <a:ext cx="514080" cy="2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71640" y="449568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pac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4724280"/>
            <a:ext cx="174636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1116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1600200"/>
            <a:ext cx="5097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724280"/>
            <a:ext cx="3505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trench technology combined with CMP (chemical mechanical polishing) techniques gives the advantage of being able to deposit the logic metallization onto a globally planar surf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nfineon%20Logo4C%20tiff" descr=""/>
          <p:cNvPicPr/>
          <p:nvPr/>
        </p:nvPicPr>
        <p:blipFill>
          <a:blip r:embed="rId5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00A-7146-4151-A020-BFDA00F5354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mbedded DRA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2 Mbits (9 MB) of eD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 MHz core/memory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6 GB/s memory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12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ided into four 18 Mbit modules of 3 banks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es framebuffer and Z buffer - enough for 1024x768x32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e internal buses, need lots of metal layer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362320"/>
          <a:ext cx="3809880" cy="292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362320"/>
                    <a:ext cx="3809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56A-3EE8-4512-A455-EDC6929FEAC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ultichip configur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 bus interface built into Glaze3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 cost effective multi-chip 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r is a geometry 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nster configuration is capable of 2400 MPIX/s, 10M triangles/s sustained -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8 gigatexels/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market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C desktop high-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cade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668680"/>
          <a:ext cx="3809880" cy="27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668680"/>
                    <a:ext cx="380988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7D4-2FD0-42D7-9DFF-CEB026B9F67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iled rendering orde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linear framebuffer in video memory but primitives rendered as tiles instead of scan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is divided into tiles (16x16, 32x32, 64x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 is not sufficient - trashes texture cach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four chip configuration, one chip renders 1/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t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endering chip ignores the primitive if it doesn’t fall into one of the tiles this chip ren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split between the rendering chips - monster configuration has a 36 MB embedded F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D7A-2DE4-4C4E-A9E0-25B78AC3DD1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71080" y="1828800"/>
            <a:ext cx="170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3280" y="1828800"/>
            <a:ext cx="99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9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4584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7472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1520" y="2514600"/>
            <a:ext cx="125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eatur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0440" y="297180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1Mb block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0800" y="342900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aw gate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4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0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038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2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4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326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7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322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8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0108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5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0108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1880" y="380988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x. cloc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038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326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5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24760" y="3429000"/>
            <a:ext cx="180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~11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0144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3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9360" y="426708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s 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03800" y="42670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512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3296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144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79720" y="4876920"/>
            <a:ext cx="173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ax.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038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326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0108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7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80440" y="5334120"/>
            <a:ext cx="1614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emory / logic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on 15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0344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0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2.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5334120"/>
            <a:ext cx="97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4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108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8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6.4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parameters for nex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86E-C26E-46D9-A0FD-C49EF1F1492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tu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mp more and more triangles through the pip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: CPU - 3D-hardware interface,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metry processors, advanced geometry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pixels and tex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ct 8 gigatexels/s in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 GB/s of memory bandwidth - embedded DRAM is the only solu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features per pi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er texture filtering (anisotropic for 2D on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ability (procedural tex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istic materials and surface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532-E02C-4628-A5DD-605F8F3EC1A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39A-F6EE-4D49-AD91-F48E03AD5FBA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new consumer-level 2D/3D-graphics accelerator c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lrate: 1200 million texels / seco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and developed by Bitboys Oy, a Finnish 3D-graphics hardware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Infineon Technologies’ 0.20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eDRAM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MB of embedded framebuffer memory, 128 MB (max) of external video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B69-630D-4A08-B5D0-779E8594D4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sign goa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itional, proven rendering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’99, Microsoft Windows, Direct3D and OpenGL compat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chip support, two- and four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additional geometry processor, also in multi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full advantage of embedded D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and efficient rendering core required, embedded DRAM in Glaze3D takes most of the available silic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E70-2B05-4636-A5B3-44A2C7BF422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d-pixel pipeline @ 150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0 million pixels / second (dual textur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00 million texels / 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5 million fully featured triangles / second (sustai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cle-accurate, bit-accurate simulator together with in-house developed PCIBuilder allows performance tuning with real-world applications (Quake III Arena, Viewper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02A-DDF6-4423-ADDB-CBEA9BB161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ure cache: 16 KB cache for even mipmap levels and surface textures, 8 KB cache for odd mipmap levels and lightmaps. Both caches two-way set associa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coverage issue - 4-pixel horizontal blocks, expect 90% coverage with average-size triang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ke III arena - 200 FPS with all features on @ 800x600x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0 MPIX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0.000 drawn triangles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MB of textures / frame, 670 MB/s of textu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complexity of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55B-9942-4053-B47C-0DD3EDCB30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simultaneous textures with trilinear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TC texture com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-scene, order independent anti-alia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 bump 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DI+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scaled transparent video over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ital flat-panel and TV-out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D63-7947-41F5-B92D-84DA6384249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Glaze3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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4 pin B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5M logic g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0 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SDR SDRAM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and/or color buffer stored here in higher resol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 128 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- or 128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I and 2X/4X AGP interfaces: AGP interface supports direct AGP text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E3F-2453-4726-805A-8E77BF79B0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10280" y="3049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08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aze3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71600" y="1219320"/>
          <a:ext cx="6515280" cy="48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219320"/>
                    <a:ext cx="6515280" cy="48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664-0779-4597-BDFE-6B8D0DC4DD2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iangle setup en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362320" y="1676520"/>
          <a:ext cx="4419360" cy="42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44193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C8E-AE77-4DFC-8813-DF0363BFA0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15:57:30Z</dcterms:created>
  <dc:creator>Petri Nordlund</dc:creator>
  <dc:description/>
  <dc:language>en-US</dc:language>
  <cp:lastModifiedBy>Petri Nordlund</cp:lastModifiedBy>
  <cp:lastPrinted>1999-05-31T07:55:05Z</cp:lastPrinted>
  <dcterms:modified xsi:type="dcterms:W3CDTF">1999-07-11T14:59:00Z</dcterms:modified>
  <cp:revision>214</cp:revision>
  <dc:subject/>
  <dc:title>No Slide Title</dc:title>
</cp:coreProperties>
</file>